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8B4-2B8F-469A-8198-18413164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3F3-F15B-47AD-9ACD-D0E2F17A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BBE-6090-44AF-BCD2-07100685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305-5687-4F12-A115-BFE76B69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815-B98D-420B-887A-BAE696E6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F70-5444-4E49-99DD-B9FF672B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519-3256-4E45-A5B9-C30CA80D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601-43CA-4CDA-89B8-D5827BBA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FE6-E572-4830-B0A2-B7703810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3EA-D0BC-4683-A780-51EA356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FB3-4F82-4CB6-A734-B6687DA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3C4-DC39-423C-AD6D-8FF3AE11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08BA-FC58-4589-8301-306FF3F0FCD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1.bp.blogspot.com/_J1aNxtNxowk/SnIvIPDowdI/AAAAAAAAAAs/HLz2moNn4NQ/s400/Livro+PC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tângulo 3" descr=""/>
          <p:cNvPicPr/>
          <p:nvPr/>
        </p:nvPicPr>
        <p:blipFill>
          <a:blip r:embed="rId2"/>
          <a:stretch/>
        </p:blipFill>
        <p:spPr>
          <a:xfrm>
            <a:off x="3279600" y="-291960"/>
            <a:ext cx="7444080" cy="30956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7"/>
          <p:cNvSpPr/>
          <p:nvPr/>
        </p:nvSpPr>
        <p:spPr>
          <a:xfrm>
            <a:off x="21128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esultado de imagem para BIBLIOTECAS VIRTUA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 autor compara a busca de informações antes e depois da era digital, hoje as bibliotecas publicas estão esquecidas sendo que as globais permanecem em alta, sendo mais rápida e cômodo na busca do sa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erá que toda essa facilidade não esta fragmentando o saber deixando as pessoas mais preguiçosas na pesquisa? Será que todas essas informações disponíveis e seus autores são confiávei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://2.bp.blogspot.com/-zz_8wxZ5Jf8/TdVzcmFIzbI/AAAAAAAAAAM/dkuU0TZlIGk/s220/coruja%2Bsab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 autor diz que o meio virtual pode ajudar na aprendizagem por ter um caráter atrativo na busca informações. Ele prega que os alunos devem deixar de considerar como única fonte de conhecimento o profes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Hoje encontramos dentro da sala de aula acesso a internet, a redes sociais e outros inúmeros meios de pesquisa ágil e fácil, isso tudo é trabalhado pelo aluno ao mesmo tempo que esta explicando o conteúdo de sua a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http://www.luzpropria.com.br/blog/wp-content/uploads/2012/05/e-commer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 autor propõem que para o individuo ter maior êxito na sua aprendizagem, o ensino tem que ser voltado para pesquisa, deixando o  aluno interagir com o conteúdo e deixar de ser ouvinte para alguém formador de opi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struindo seu próprio conhecimento e consolidando suas ideías, dando assim autoridade de argumento, pois sendo ele o processador da informação ele com certeza saberá defender seu conheci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s://encrypted-tbn2.gstatic.com/images?q=tbn:ANd9GcQmREOtDB9GzfIQXqiHCbWlGa_imUFCd6PysnFLVJqLbbZfwchRmma8J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itado do professor! Estudou tanto pra fi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squecido nessa era digi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ais se pararmos para pensar o professor h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tem um papel ainda maior que antes, ele ag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xerce o papel de educador do bom uso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todas essas mídias. Professor ainda é ícone,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lunos de hoje ainda traz pra si que s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ducador é alguém de confiança contam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eus conselhos e orientaçõ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esultado de imagem para equipe   VIRTU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Retângulo 4" descr=""/>
          <p:cNvPicPr/>
          <p:nvPr/>
        </p:nvPicPr>
        <p:blipFill>
          <a:blip r:embed="rId2"/>
          <a:stretch/>
        </p:blipFill>
        <p:spPr>
          <a:xfrm>
            <a:off x="-92160" y="-182520"/>
            <a:ext cx="9333000" cy="6284880"/>
          </a:xfrm>
          <a:prstGeom prst="rect">
            <a:avLst/>
          </a:prstGeom>
          <a:ln w="0">
            <a:noFill/>
          </a:ln>
        </p:spPr>
      </p:pic>
      <p:pic>
        <p:nvPicPr>
          <p:cNvPr id="68" name="pikeno e menor - valeu amigo137.mp3" descr=""/>
          <p:cNvPicPr/>
          <p:nvPr/>
        </p:nvPicPr>
        <p:blipFill>
          <a:blip r:embed="rId3"/>
          <a:stretch/>
        </p:blipFill>
        <p:spPr>
          <a:xfrm>
            <a:off x="4419720" y="371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28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7:09:04Z</dcterms:created>
  <dc:creator>Alessandro</dc:creator>
  <dc:description/>
  <dc:language>en-US</dc:language>
  <cp:lastModifiedBy>Alessandro</cp:lastModifiedBy>
  <dcterms:modified xsi:type="dcterms:W3CDTF">2015-03-26T22:14:43Z</dcterms:modified>
  <cp:revision>29</cp:revision>
  <dc:subject/>
  <dc:title>Slide 1</dc:title>
</cp:coreProperties>
</file>